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7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25.jpeg" ContentType="image/jpeg"/>
  <Override PartName="/ppt/media/image67.png" ContentType="image/png"/>
  <Override PartName="/ppt/media/image30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65.png" ContentType="image/png"/>
  <Override PartName="/ppt/media/image66.png" ContentType="image/png"/>
  <Override PartName="/ppt/media/image29.png" ContentType="image/png"/>
  <Override PartName="/ppt/media/image3.png" ContentType="image/png"/>
  <Override PartName="/ppt/media/image17.jpeg" ContentType="image/jpeg"/>
  <Override PartName="/ppt/media/image63.png" ContentType="image/png"/>
  <Override PartName="/ppt/media/image62.png" ContentType="image/png"/>
  <Override PartName="/ppt/media/image27.png" ContentType="image/png"/>
  <Override PartName="/ppt/media/image33.jpeg" ContentType="image/jpeg"/>
  <Override PartName="/ppt/media/image60.png" ContentType="image/png"/>
  <Override PartName="/ppt/media/image6.jpeg" ContentType="image/jpeg"/>
  <Override PartName="/ppt/media/image18.png" ContentType="image/png"/>
  <Override PartName="/ppt/media/image49.png" ContentType="image/png"/>
  <Override PartName="/ppt/media/image23.jpeg" ContentType="image/jpeg"/>
  <Override PartName="/ppt/media/image24.png" ContentType="image/png"/>
  <Override PartName="/ppt/media/image28.jpeg" ContentType="image/jpeg"/>
  <Override PartName="/ppt/media/image11.jpeg" ContentType="image/jpe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38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6.png" ContentType="image/png"/>
  <Override PartName="/ppt/media/image8.jpeg" ContentType="image/jpeg"/>
  <Override PartName="/ppt/media/image31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B4EB-6735-459F-BD3A-D32B43A30D9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Flach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fache Bauart, bes. geeignet für große Wellenabstände, hohe Geschw. (bis 100m/s), Mehrscheibenbertrieb, große Umfangskräfte mög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eingesetzt bei mittleren Leistungen im allg. Maschinenb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ppe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hohe Riemengeschwindigkeit (v=60m/s), kleiner ScheibenØ, hohe Flexibilität erlaubt kompakte Bauwe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ynchro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ex Bol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ue Abgrenzung des Einsatzgebietes zw. Flach-, Keil- und Keilrippenriemen gibt es für den normalen Anwendungsbereich in der Antriebstechnik n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8EF9-3879-4708-8C01-31DD20349BC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Flach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fache Bauart, bes. geeignet für große Wellenabstände, hohe Geschw. (bis 100m/s), Mehrscheibenbertrieb, große Umfangskräfte mög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eingesetzt bei mittleren Leistungen im allg. Maschinenb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ppe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hohe Riemengeschwindigkeit (v=60m/s), kleiner ScheibenØ, hohe Flexibilität erlaubt kompakte Bauwe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ynchro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ex Bol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ue Abgrenzung des Einsatzgebietes zw. Flach-, Keil- und Keilrippenriemen gibt es für den normalen Anwendungsbereich in der Antriebstechnik n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BA21-746E-4918-9B16-718C8F50D84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e Antriebe haben die gleiche Leis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ber mit Hochleistungsflachriemen kann man höhere Umfangsgeschwindigkeiten errei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C4BB-2DC6-4994-A9E4-335BF4B1755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ibungserhöh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terialwah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rspann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schlingungswinkel (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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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5FCE-544D-490E-ACBF-2378B49053B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Dehnspan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emenlänge kleiner als Wellenabstand, beim Auflegen muss Riemen gedehnt we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bar bei Wellenabstand &lt; 5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ro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nnrolle drückt nähe der kleinsten Scheibe von außen auf den Leertrum, dadurch vergrößert sich Umschlingungswinkel b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bar bei großen Trieben mit festen Wellenabs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rehrichtungswechsel ausgeschlo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schi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durch verstellen des Antriebsmotors wird Riemen gespan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schli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lbsttätiges Spannen durch Gewichtsstücke od. Fed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wip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otor sitzt auf Wip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urch das Rückdrehmoment des Motors wird Riemen selbsttätig gespan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durch passen sich schwankende Drehmomente an und ein rutschfreies Arbeiten ist gewährleist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igt zu Schwingungen, bei Neukonstruktion vermei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chwenksche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eststehender Antriebsmotor (M) mit Schwenkriemenscheibe 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S ist ein Zahnradpaar eingebaut, sodass große Übersetzungen ins Langsame erzielen l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A60D-BF04-4CE2-9AF4-4E983B924F8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ufenscheiben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Änderung der Übersetzung i durch umlegen des Riemens auf andere Scheibenp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 Wellenabstand unverändert bleibt, muss Scheiben Ø so gewählt sein, das sich immer die gleiche Riemenlänge ergib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altvorgang im Stills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gelscheiben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ufenlose Änderung der Übersetz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erschieben des Riemens während Betrieb mit Gab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eiben gleiches Kegelverhältnis, wegen festen Wellenabstand und Riemenlä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scheibenverstell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ufenlose Veränderung der Übersetzung, durch Veränderung der RichtØ beider Schei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Ausrück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legen während des Betriebes Kraftfluss wird kurzzeitig unterbro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3E1E-2019-4935-B3C4-3FE87BC2E94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ringe Beanspruchung Scheibe aus Leichtmetallen, Holz oder Kunstst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Kostengründen werden Scheiben aus dem Vollen gedreht oder gego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lachriemenscheiben sind nach DIN 111 genormt, siehe RM TB S. 171 Tabelle 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EE7E-3713-4548-A3A6-71A09961F07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rd bei Scheiben mit Ø größer 355mm angewan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eiben mit Armen verse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zahl der Arme kann man berechnen (z≈0,15∙√d(mm)≥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auffläche möglichst geschliffen, um Laufzeit des Riemens zu erhö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gibt geteilte Scheiben, lassen sich nachträglich zwischen Lagerstellen setzen und einfache Mon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ölbung das selbe wie bei Bodenschei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66E7-A74F-4101-8987-78BA41D7EF0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f497d"/>
                </a:solidFill>
                <a:latin typeface="Calibri"/>
              </a:rPr>
              <a:t>Riementriebe sind Zugmittelgetriebe, bei denen das biegeweiche elastische Zugmittel „Riemen“ rein reibschlüssig (kraftschlüssig) oder mit zusätzlichen Formschluß die Umfangskraft als Zugkraft von der Antriebs- zur Abtriebswelle  überträgt. Außer zur Leistungsübertragung werden die Flachriemen auch als Transportgurte zum Weiterleiten von Schütt- &amp; Stückgütern eingesetz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2986-4D3C-4C2A-AFED-55CA21B0185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rmalkeil- &amp; Schmalkeilriemenscheiben sind nach DIN 2217 genormt. RM TB S. 174 Tabelle 16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ilrippenriemenscheiben sind nach DIN 7867 genormt, RM TB S. 175 Tabelle 16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geringeren Stückzahlen oder Einzelfertigungen werden die Schweißkonstruktionen bevorzu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0B4B-6518-4442-BBB4-8E62EF236CB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Leder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reinem Leder dadurch höhere Reibungswer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der Antriebstechnik von Mehrschicht &amp; Verbundriemen verdrän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Text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emen aus organischen Stoffen (Baumwolle, Tierhaare, Naturseide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zw. synthetischen Stoffen (Kunstseide, Nylon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öhere Kantenempfindlichkeit (Rissgefah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Antriebstechnik ohne Bedeu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unststoff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(Nylon, Perlon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Festigkeit bei konst. Temp. fast dehnungs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lechtes Reibungsverhalten, in der Antriebstechnik nur selten verwend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hrschicht- od. Verbund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lachriemen abgelö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lyamid-Zugelement kombiniert mit adhäsiven Laufflä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sitzen hohe Zugfestigkeitswerte (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450…600N/mm</a:t>
            </a:r>
            <a:r>
              <a:rPr b="0" lang="de-DE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), geringe Deh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Längsrichtung sehr flexibel &amp; unempfindlich gegen Schmiermittel sowie atmosphärischen Einflü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einer Schlupf, gute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98%, lange Lebensdau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m Wellenabstand (1: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önnen auch bei hohen Geschwindigkeiten eingesetzt werden, verdrängen in manchen Fällen auch die 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15C1-133F-4F9A-B010-8B95C80FBBF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rapezförmige Querschnitts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e Zugschicht (endlosgewickelte Kordfäden aus Polyesterfaser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rn (hochwertige Kautschukmisch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hüllung aus gummierten Baumwollgewebe od. Synthetikgew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urch technischen Fortschritt mehrere Bauformen s. B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 größere Flexibilität zu erreichen sind Keilriemen gezahnt, dadurch kleinere Scheiben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Belastung wird Keilriemen in trapezförmige Rille der Scheibe gezogen, erzeugt an den beiden Flanken des Riemens den erforderlichen Reibschl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ungsbereiche + Eigenschaften TB 16-2 S. 16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914B-32A5-4C27-BAB0-0237DEEC7D4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ereinte Vorteile des Flachriemens mit Keilriem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hr bieg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Geschwindigkei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eise &amp; vibrationsfr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rd in ganzer breite gleichmäßig beanspr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llen verhindern verdrehen, dadurch abspringen verhind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Übersetzu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s zu 80°bestä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lektr. Leitfähig, bedingt ölresis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ungsbereiche + Eigenschaften TB 16-2 S. 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347E-8179-4DF6-96B8-C61B3FFA2A3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räfteverteilung am 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ilwinkel α ist genormt und liegt bei 32°-40° für Normal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1D4-D12B-430B-9A37-7444660F309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A11-8BFF-4855-81DA-FAC87A31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3EA-6685-4B65-9C12-83C358F9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C0AB0-49E1-4C8F-8854-31556624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92810-0AB7-431A-BA6D-1E257BBA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6B3FB-7C14-43BC-B981-537D5985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94666-0F77-4700-BDED-A2A3C43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A2871-86B6-4E3E-B21F-78A24A3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E368B-7682-416E-85E3-0ADDA810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0D7A6-0F14-4E83-B6AB-7DF13798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A0289-7611-4EC9-9308-90288D3A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0C481-7144-417E-A140-3769225D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A10-5411-4B8B-8E5D-FBFAD64A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2FB-4955-426F-A5E4-8B9A9057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468D-2C5B-4EEA-89C4-AFB12B0B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7044-C851-4909-93D2-71A9C4C5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1506-876D-4F49-AA55-B5BF5A18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B56C-128C-452E-9885-0479B77C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4DCC-1A25-4ACD-97C0-46E52141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047A-57E0-4380-B00C-69271E4E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919D-13EA-4E54-92AC-797A72B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A0B-0CA0-48CB-9C80-E7039832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3EB4-233D-4F4D-AD0C-B35309F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52D3-F1CB-4E58-A712-E0D80F04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5915-5D34-4037-8BB6-7C81AB1C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918E-F198-41E4-96E9-FD13AE57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8DC9-726F-43BF-A059-B6A41B96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E745-A112-4DE6-A9B7-215C4CA2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E4E9-0F1E-4239-8BA2-DA6F5C86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F0B2-5BAC-4294-9B26-66DDC161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BCB5-D2C7-4C80-B688-F5453588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6146-16FF-4594-9991-804A845E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044-6240-424B-AF4B-2F53A150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7F3D-9784-4E1B-B15A-6002134E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268D-FB27-49B9-A52F-7727A15F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4F4BB-35C9-4E7D-ACD0-00E7C44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C435-7680-420E-A7C2-4935E4D4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A335B-2C38-48DC-9ACB-566B64E7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4899-6053-4FAC-9C47-65D8EA27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64A0-2355-40F6-9C3A-7FCD2E35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AAA4-CA93-4BEB-9D3B-F53F1331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45225-DB44-401F-BAAC-8227D8CD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43E2-7426-4FE5-84C1-6C9982A8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401-D1D4-44C8-ACB2-E1AF591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90407-05F8-489D-95E5-C8C0D849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86BC-665B-494B-8439-3D97D91B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D147-8569-4A3D-B323-24C74185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95137-B3E7-4C9C-9C7E-ABB4ECCB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1242-DD07-4D68-BEE5-432B56D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E373-D917-45D8-8C86-7704A1AF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CAEE-B35B-4A7D-A97B-367331CC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3508-7D33-4A4B-8589-0AD0E637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7B5D-4AC2-4A5F-933C-0649683C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976D7-FD7A-43D3-8F02-AB26B2A1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1C0-F3E5-4B68-9482-FA8F1FB1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7882C-AD7C-42CB-B088-130CF0BE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BB1C-27B8-4455-900F-C30EBC11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A6076-26B2-45DA-BF34-E34F2310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2A73-2A99-4925-A47F-642871C1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086D0-FDD7-42F9-BFDE-18A79293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A673-3B91-4310-AE1E-3E1ADD8C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4C3DE-0280-4DCB-9BEE-97AFBF1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84EFF-BF30-4212-8960-9F8F14C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0E65B-F0B9-4B41-9C32-281BD0E9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E7A13-296A-433C-A7C1-251537B2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A05-D98B-47DD-BEE2-2E6FFCD1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88E4E-007E-4038-AED9-265350F3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D316-C2FE-4931-B747-6E0CF02A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50266-D804-430F-95CB-FAA74B9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DB92-E52F-429E-889E-2A3575F1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99C81-DF7B-40C9-BF81-51A2FC2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744C0-0360-4E55-95D0-7FCD79DA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C585-932D-4167-99BF-45857B2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4AE4B-781A-4935-886A-57FCF1C1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D64FA-4FB2-4752-9933-A1EEBFD1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FC5DD-C136-41FC-BFBF-C3D50B4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815-E3BB-411B-AE7E-0D22A029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711A-0875-49ED-B806-167845DD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6D11B-E12D-42C8-9E1E-A34DC671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A951C-CCDE-426C-B005-DA91712C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9F450-C0BD-4038-841B-71454EAD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27214-F8C4-4DD4-ADFB-F92BDB6F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7A935-B01D-41CF-9D29-C9DC0C93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454BF-B670-4AF5-A68F-D7667004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3A504-353A-4E96-A491-DB67CAC3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A4BDD-8E7F-48E4-90BF-8CBEF2A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275FE-7292-4892-816C-6F6D525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500-E6C4-4AC8-BF91-2164872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A6D9A-F0AA-4A0A-8C58-9030732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F9C91-1D90-40E1-BFD0-8C1E133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8AFF-6C0C-40F1-9034-1B96A5A4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57384-ED73-4B46-80FE-F28A8BBB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28F15-684A-49C7-9CCF-B976565A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B34E7-66EA-4E20-8675-DF637387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B603C-6C63-4C41-A963-23F38FBE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6C651-4A5F-4A7D-9490-1AB86B71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A82BF-3176-4AE0-99D5-191149F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C1287-E57D-463B-81D8-CF2F87ED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CA0-DAE2-4C67-BE37-5BC79FB2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D6A5D-AEBE-4C8C-88F7-EFDA3E33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C534D-93F8-4847-B4BC-E9CFA2A9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6D468-E283-404E-9A33-983C71A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20B38-CDDC-474C-9EAE-B70813E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2AFCB-4143-46B6-B614-8098CC8B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F4D14-74B8-426C-B1A5-99F24A7F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425B4-E553-482C-9A5E-A0573B90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E2577-77EE-419C-A853-7D44349B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DAB41-F7DC-4812-A53A-580FEBD4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80F98-06EC-4282-B1DA-60F0BC60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erade Verbindung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Gerade Verbindung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15BF-578F-4D3C-8780-D1A71DBBC179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erade Verbindung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Gerade Verbindung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Gerade Verbindung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Gerade Verbindung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erade Verbindung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81C5-B1CE-422A-AF34-8884C198B0B9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erade Verbindung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Gerade Verbindung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Gerade Verbindung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Gerade Verbindung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Gerade Verbindung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Gerade Verbindung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F028-E44D-4846-A122-5D0B2F53BAF1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erade Verbindung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5FA1-C137-478D-A3D5-504CB4A982B9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erade Verbindung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1873-2CEF-4C05-A76A-1349C47EA8BC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A5C8-FE49-4230-904E-D0E7AA556BA8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erade Verbindung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2FCD-895B-4A3C-9CDF-A647B5801BE1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AC4F-3BC5-42A0-BB82-6CD6A0E6A09A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9044-877E-4DC7-87C7-53356B3EC79B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Grafik 11" descr="dampfmaschine_1924.jpg"/>
          <p:cNvPicPr/>
          <p:nvPr/>
        </p:nvPicPr>
        <p:blipFill>
          <a:blip r:embed="rId1"/>
          <a:stretch/>
        </p:blipFill>
        <p:spPr>
          <a:xfrm>
            <a:off x="1943280" y="1665360"/>
            <a:ext cx="4917960" cy="3638520"/>
          </a:xfrm>
          <a:prstGeom prst="rect">
            <a:avLst/>
          </a:prstGeom>
          <a:ln w="0">
            <a:noFill/>
          </a:ln>
        </p:spPr>
      </p:pic>
      <p:pic>
        <p:nvPicPr>
          <p:cNvPr id="407" name="Grafik 3" descr="Auto.jpg"/>
          <p:cNvPicPr/>
          <p:nvPr/>
        </p:nvPicPr>
        <p:blipFill>
          <a:blip r:embed="rId2"/>
          <a:stretch/>
        </p:blipFill>
        <p:spPr>
          <a:xfrm>
            <a:off x="0" y="260280"/>
            <a:ext cx="3336840" cy="2664000"/>
          </a:xfrm>
          <a:prstGeom prst="rect">
            <a:avLst/>
          </a:prstGeom>
          <a:ln w="0">
            <a:noFill/>
          </a:ln>
        </p:spPr>
      </p:pic>
      <p:pic>
        <p:nvPicPr>
          <p:cNvPr id="408" name="Grafik 4" descr="bohrmaschine.jpg"/>
          <p:cNvPicPr/>
          <p:nvPr/>
        </p:nvPicPr>
        <p:blipFill>
          <a:blip r:embed="rId3"/>
          <a:stretch/>
        </p:blipFill>
        <p:spPr>
          <a:xfrm>
            <a:off x="395280" y="3357720"/>
            <a:ext cx="2303640" cy="306864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8" descr="motorrad.jpg"/>
          <p:cNvPicPr/>
          <p:nvPr/>
        </p:nvPicPr>
        <p:blipFill>
          <a:blip r:embed="rId4"/>
          <a:stretch/>
        </p:blipFill>
        <p:spPr>
          <a:xfrm>
            <a:off x="3132000" y="76500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410" name="Grafik 9" descr="riemen_in_muhle_3802.jpg"/>
          <p:cNvPicPr/>
          <p:nvPr/>
        </p:nvPicPr>
        <p:blipFill>
          <a:blip r:embed="rId5"/>
          <a:stretch/>
        </p:blipFill>
        <p:spPr>
          <a:xfrm>
            <a:off x="2771640" y="3429000"/>
            <a:ext cx="3337200" cy="2502000"/>
          </a:xfrm>
          <a:prstGeom prst="rect">
            <a:avLst/>
          </a:prstGeom>
          <a:ln w="0">
            <a:noFill/>
          </a:ln>
        </p:spPr>
      </p:pic>
      <p:pic>
        <p:nvPicPr>
          <p:cNvPr id="411" name="Grafik 6" descr="flughafen.jpg"/>
          <p:cNvPicPr/>
          <p:nvPr/>
        </p:nvPicPr>
        <p:blipFill>
          <a:blip r:embed="rId6"/>
          <a:stretch/>
        </p:blipFill>
        <p:spPr>
          <a:xfrm>
            <a:off x="6012000" y="0"/>
            <a:ext cx="2916000" cy="2916360"/>
          </a:xfrm>
          <a:prstGeom prst="rect">
            <a:avLst/>
          </a:prstGeom>
          <a:ln w="0">
            <a:noFill/>
          </a:ln>
        </p:spPr>
      </p:pic>
      <p:pic>
        <p:nvPicPr>
          <p:cNvPr id="412" name="Grafik 7" descr="foerderband1.jpg"/>
          <p:cNvPicPr/>
          <p:nvPr/>
        </p:nvPicPr>
        <p:blipFill>
          <a:blip r:embed="rId7"/>
          <a:stretch/>
        </p:blipFill>
        <p:spPr>
          <a:xfrm>
            <a:off x="6162840" y="2852640"/>
            <a:ext cx="2981160" cy="1944720"/>
          </a:xfrm>
          <a:prstGeom prst="rect">
            <a:avLst/>
          </a:prstGeom>
          <a:ln w="0">
            <a:noFill/>
          </a:ln>
        </p:spPr>
      </p:pic>
      <p:pic>
        <p:nvPicPr>
          <p:cNvPr id="413" name="Grafik 5" descr="crosstrainer.jpg"/>
          <p:cNvPicPr/>
          <p:nvPr/>
        </p:nvPicPr>
        <p:blipFill>
          <a:blip r:embed="rId8"/>
          <a:stretch/>
        </p:blipFill>
        <p:spPr>
          <a:xfrm>
            <a:off x="6084720" y="4470480"/>
            <a:ext cx="2240280" cy="23875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"/>
          <p:cNvSpPr/>
          <p:nvPr/>
        </p:nvSpPr>
        <p:spPr>
          <a:xfrm>
            <a:off x="539640" y="4400640"/>
            <a:ext cx="3810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leine Vorspannung(&lt;1.5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Übersetzung (i&lt;2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leiner 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Drehmomtentstöß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4788000" y="184464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ppe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r Wellen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Übersetzung (i&lt;4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751280" y="4329000"/>
            <a:ext cx="4191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Synchro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inge Vorspannung (&lt;1.1 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onstante Übersetzung (i&lt;1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inkelgenaue 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 Schlup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Überlastsicherh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76360" y="2421000"/>
            <a:ext cx="42130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 Vorspannung (&lt;2 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mittlere Übersetzung (i&lt;15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 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eringe Laufgeräusch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r Wellen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Textfeld 12"/>
          <p:cNvSpPr/>
          <p:nvPr/>
        </p:nvSpPr>
        <p:spPr>
          <a:xfrm>
            <a:off x="2505960" y="112536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1. Wahl der Riemenar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65" name="Textfeld 5"/>
          <p:cNvSpPr/>
          <p:nvPr/>
        </p:nvSpPr>
        <p:spPr>
          <a:xfrm>
            <a:off x="2332440" y="1268280"/>
            <a:ext cx="42523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4e3b3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Wahl der Riemenar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Flach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ppe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Synchro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6" name="Picture 2" descr="http://www.paul-herkt.de/graphics/produkte/riemen.gif"/>
          <p:cNvPicPr/>
          <p:nvPr/>
        </p:nvPicPr>
        <p:blipFill>
          <a:blip r:embed="rId2"/>
          <a:srcRect l="3779" t="9527" r="0" b="7876"/>
          <a:stretch/>
        </p:blipFill>
        <p:spPr>
          <a:xfrm>
            <a:off x="184320" y="1628640"/>
            <a:ext cx="2044440" cy="1044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http://www.wmv-dresden-download.de/verschiedenes/keilriemen.JPG"/>
          <p:cNvPicPr/>
          <p:nvPr/>
        </p:nvPicPr>
        <p:blipFill>
          <a:blip r:embed="rId3"/>
          <a:srcRect l="0" t="1811" r="35451" b="0"/>
          <a:stretch/>
        </p:blipFill>
        <p:spPr>
          <a:xfrm>
            <a:off x="6696000" y="1665360"/>
            <a:ext cx="1621080" cy="1173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http://www.sternzeit-107.de/gallery/Keilriemen/Keilrippenriemen.gif"/>
          <p:cNvPicPr/>
          <p:nvPr/>
        </p:nvPicPr>
        <p:blipFill>
          <a:blip r:embed="rId4"/>
          <a:stretch/>
        </p:blipFill>
        <p:spPr>
          <a:xfrm>
            <a:off x="216000" y="3321000"/>
            <a:ext cx="2003400" cy="1295280"/>
          </a:xfrm>
          <a:prstGeom prst="rect">
            <a:avLst/>
          </a:prstGeom>
          <a:ln w="0">
            <a:noFill/>
          </a:ln>
        </p:spPr>
      </p:pic>
      <p:pic>
        <p:nvPicPr>
          <p:cNvPr id="469" name="Gerade Verbindung mit Pfeil 9" descr=""/>
          <p:cNvPicPr/>
          <p:nvPr/>
        </p:nvPicPr>
        <p:blipFill>
          <a:blip r:embed="rId5"/>
          <a:stretch/>
        </p:blipFill>
        <p:spPr>
          <a:xfrm>
            <a:off x="1682640" y="2176560"/>
            <a:ext cx="1541520" cy="517320"/>
          </a:xfrm>
          <a:prstGeom prst="rect">
            <a:avLst/>
          </a:prstGeom>
          <a:ln w="0">
            <a:noFill/>
          </a:ln>
        </p:spPr>
      </p:pic>
      <p:pic>
        <p:nvPicPr>
          <p:cNvPr id="470" name="Gerade Verbindung mit Pfeil 10" descr=""/>
          <p:cNvPicPr/>
          <p:nvPr/>
        </p:nvPicPr>
        <p:blipFill>
          <a:blip r:embed="rId6"/>
          <a:stretch/>
        </p:blipFill>
        <p:spPr>
          <a:xfrm>
            <a:off x="1719360" y="3438360"/>
            <a:ext cx="1365120" cy="981360"/>
          </a:xfrm>
          <a:prstGeom prst="rect">
            <a:avLst/>
          </a:prstGeom>
          <a:ln w="0">
            <a:noFill/>
          </a:ln>
        </p:spPr>
      </p:pic>
      <p:pic>
        <p:nvPicPr>
          <p:cNvPr id="471" name="Gerade Verbindung mit Pfeil 11" descr=""/>
          <p:cNvPicPr/>
          <p:nvPr/>
        </p:nvPicPr>
        <p:blipFill>
          <a:blip r:embed="rId7"/>
          <a:stretch/>
        </p:blipFill>
        <p:spPr>
          <a:xfrm>
            <a:off x="5114880" y="2036880"/>
            <a:ext cx="1835280" cy="895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http://www.lenze.de/lenze.de_de_active/200_Partner_Products/210_AT_Partner_Products/at_images/0110_Verbindungstechnik/0170_Zahnriemen/LEA33_Poly_Chain_GT_1307_w.jpg"/>
          <p:cNvPicPr/>
          <p:nvPr/>
        </p:nvPicPr>
        <p:blipFill>
          <a:blip r:embed="rId8"/>
          <a:stretch/>
        </p:blipFill>
        <p:spPr>
          <a:xfrm>
            <a:off x="5977080" y="3249720"/>
            <a:ext cx="2095200" cy="1438200"/>
          </a:xfrm>
          <a:prstGeom prst="rect">
            <a:avLst/>
          </a:prstGeom>
          <a:ln w="0">
            <a:noFill/>
          </a:ln>
        </p:spPr>
      </p:pic>
      <p:pic>
        <p:nvPicPr>
          <p:cNvPr id="473" name="Gerade Verbindung mit Pfeil 23" descr=""/>
          <p:cNvPicPr/>
          <p:nvPr/>
        </p:nvPicPr>
        <p:blipFill>
          <a:blip r:embed="rId9"/>
          <a:stretch/>
        </p:blipFill>
        <p:spPr>
          <a:xfrm>
            <a:off x="5121360" y="3608280"/>
            <a:ext cx="1218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5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35" descr=""/>
          <p:cNvPicPr/>
          <p:nvPr/>
        </p:nvPicPr>
        <p:blipFill>
          <a:blip r:embed="rId2"/>
          <a:stretch/>
        </p:blipFill>
        <p:spPr>
          <a:xfrm>
            <a:off x="2158920" y="1233360"/>
            <a:ext cx="5029200" cy="4751640"/>
          </a:xfrm>
          <a:prstGeom prst="rect">
            <a:avLst/>
          </a:prstGeom>
          <a:ln w="0">
            <a:noFill/>
          </a:ln>
        </p:spPr>
      </p:pic>
      <p:sp>
        <p:nvSpPr>
          <p:cNvPr id="477" name="Textfeld 6"/>
          <p:cNvSpPr/>
          <p:nvPr/>
        </p:nvSpPr>
        <p:spPr>
          <a:xfrm>
            <a:off x="4284360" y="59850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e3b30"/>
                </a:solidFill>
                <a:latin typeface="Franklin Gothic Book"/>
              </a:rPr>
              <a:t>RM S. 58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9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80" name="Textfeld 5"/>
          <p:cNvSpPr/>
          <p:nvPr/>
        </p:nvSpPr>
        <p:spPr>
          <a:xfrm>
            <a:off x="2935440" y="10159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2"/>
          <a:stretch/>
        </p:blipFill>
        <p:spPr>
          <a:xfrm>
            <a:off x="1835280" y="2168640"/>
            <a:ext cx="5167080" cy="2890800"/>
          </a:xfrm>
          <a:prstGeom prst="rect">
            <a:avLst/>
          </a:prstGeom>
          <a:ln w="0">
            <a:noFill/>
          </a:ln>
        </p:spPr>
      </p:pic>
      <p:sp>
        <p:nvSpPr>
          <p:cNvPr id="482" name="Textfeld 7"/>
          <p:cNvSpPr/>
          <p:nvPr/>
        </p:nvSpPr>
        <p:spPr>
          <a:xfrm>
            <a:off x="1869120" y="5373720"/>
            <a:ext cx="598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ste Bauform ohne Spannvorrichtung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leiche Drehbewegung der Riemenscheib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aagerechter, schräger und senkrechter Anordn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Textfeld 8"/>
          <p:cNvSpPr/>
          <p:nvPr/>
        </p:nvSpPr>
        <p:spPr>
          <a:xfrm>
            <a:off x="2940120" y="166536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offene Riemengetrieb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111600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Book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"/>
          <p:cNvPicPr/>
          <p:nvPr/>
        </p:nvPicPr>
        <p:blipFill>
          <a:blip r:embed="rId2"/>
          <a:stretch/>
        </p:blipFill>
        <p:spPr>
          <a:xfrm>
            <a:off x="4876920" y="1308240"/>
            <a:ext cx="4038480" cy="1695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876920" y="3193920"/>
            <a:ext cx="3933720" cy="1378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4"/>
          <a:stretch/>
        </p:blipFill>
        <p:spPr>
          <a:xfrm>
            <a:off x="4952880" y="4876920"/>
            <a:ext cx="3996000" cy="10159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4572000" y="1752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457200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4724280" y="5024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5759280" y="2673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kreuz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6300720" y="418464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bgekreuzt (geschränkt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7343640" y="55166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keltrieb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Textfeld 14"/>
          <p:cNvSpPr/>
          <p:nvPr/>
        </p:nvSpPr>
        <p:spPr>
          <a:xfrm>
            <a:off x="2935440" y="10159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Textfeld 16"/>
          <p:cNvSpPr/>
          <p:nvPr/>
        </p:nvSpPr>
        <p:spPr>
          <a:xfrm>
            <a:off x="739080" y="1808280"/>
            <a:ext cx="41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b) gekreu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Scheiben drehen entgegengeset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Berührung des Riemens vermeid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nur für Flachriemen geeigne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Textfeld 17"/>
          <p:cNvSpPr/>
          <p:nvPr/>
        </p:nvSpPr>
        <p:spPr>
          <a:xfrm>
            <a:off x="863280" y="335772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c) halbgekreu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gekreuzte Well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Textfeld 18"/>
          <p:cNvSpPr/>
          <p:nvPr/>
        </p:nvSpPr>
        <p:spPr>
          <a:xfrm>
            <a:off x="811800" y="4797360"/>
            <a:ext cx="36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d) Winkeltrie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ellenachsen mit Schnittpunk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Umlenkrolle notwendi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1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02" name="Textfeld 7"/>
          <p:cNvSpPr/>
          <p:nvPr/>
        </p:nvSpPr>
        <p:spPr>
          <a:xfrm>
            <a:off x="2935440" y="116064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3" name="Picture 14" descr=""/>
          <p:cNvPicPr/>
          <p:nvPr/>
        </p:nvPicPr>
        <p:blipFill>
          <a:blip r:embed="rId2"/>
          <a:stretch/>
        </p:blipFill>
        <p:spPr>
          <a:xfrm>
            <a:off x="5111640" y="1628640"/>
            <a:ext cx="3505320" cy="2252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5" descr=""/>
          <p:cNvPicPr/>
          <p:nvPr/>
        </p:nvPicPr>
        <p:blipFill>
          <a:blip r:embed="rId3"/>
          <a:stretch/>
        </p:blipFill>
        <p:spPr>
          <a:xfrm>
            <a:off x="5148360" y="396864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4572000" y="1916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4608360" y="414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228600" y="1905120"/>
            <a:ext cx="3962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443329"/>
                </a:solidFill>
                <a:uFillTx/>
                <a:latin typeface="Franklin Gothic Book"/>
              </a:rPr>
              <a:t>e) &amp; f) Mehrfachantrieb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eistungsverteil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in Antrieb, mehrere Abtrieb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Ober- und Unterseite des Riemens als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auffläch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Mehrfachbie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ahnriemen für winkelgetreue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setz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9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10" name="Textfeld 7"/>
          <p:cNvSpPr/>
          <p:nvPr/>
        </p:nvSpPr>
        <p:spPr>
          <a:xfrm>
            <a:off x="2676600" y="116064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3. Vorspannmöglichkeit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1" name="Picture 24" descr=""/>
          <p:cNvPicPr/>
          <p:nvPr/>
        </p:nvPicPr>
        <p:blipFill>
          <a:blip r:embed="rId2"/>
          <a:stretch/>
        </p:blipFill>
        <p:spPr>
          <a:xfrm>
            <a:off x="6407280" y="4197240"/>
            <a:ext cx="2438280" cy="1959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"/>
          <p:cNvPicPr/>
          <p:nvPr/>
        </p:nvPicPr>
        <p:blipFill>
          <a:blip r:embed="rId3"/>
          <a:stretch/>
        </p:blipFill>
        <p:spPr>
          <a:xfrm>
            <a:off x="539640" y="2313000"/>
            <a:ext cx="2514600" cy="1633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1" descr=""/>
          <p:cNvPicPr/>
          <p:nvPr/>
        </p:nvPicPr>
        <p:blipFill>
          <a:blip r:embed="rId4"/>
          <a:stretch/>
        </p:blipFill>
        <p:spPr>
          <a:xfrm>
            <a:off x="3587760" y="4265640"/>
            <a:ext cx="2514600" cy="1860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0" descr=""/>
          <p:cNvPicPr/>
          <p:nvPr/>
        </p:nvPicPr>
        <p:blipFill>
          <a:blip r:embed="rId5"/>
          <a:stretch/>
        </p:blipFill>
        <p:spPr>
          <a:xfrm>
            <a:off x="311040" y="4802040"/>
            <a:ext cx="3148200" cy="127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"/>
          <p:cNvPicPr/>
          <p:nvPr/>
        </p:nvPicPr>
        <p:blipFill>
          <a:blip r:embed="rId6"/>
          <a:stretch/>
        </p:blipFill>
        <p:spPr>
          <a:xfrm>
            <a:off x="6330960" y="2162160"/>
            <a:ext cx="2209680" cy="1708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6" descr=""/>
          <p:cNvPicPr/>
          <p:nvPr/>
        </p:nvPicPr>
        <p:blipFill>
          <a:blip r:embed="rId7"/>
          <a:stretch/>
        </p:blipFill>
        <p:spPr>
          <a:xfrm>
            <a:off x="3587760" y="1855800"/>
            <a:ext cx="2286000" cy="20271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3600360" y="1952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6300720" y="220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324000" y="4797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826920" y="386064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hnspannu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Text Box 12"/>
          <p:cNvSpPr/>
          <p:nvPr/>
        </p:nvSpPr>
        <p:spPr>
          <a:xfrm>
            <a:off x="684360" y="609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schlitt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4032360" y="6129360"/>
            <a:ext cx="14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wipp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468360" y="234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3959280" y="382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rol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6629400" y="3821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schien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3743280" y="4400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Text Box 25"/>
          <p:cNvSpPr/>
          <p:nvPr/>
        </p:nvSpPr>
        <p:spPr>
          <a:xfrm>
            <a:off x="6372360" y="4221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Text Box 26"/>
          <p:cNvSpPr/>
          <p:nvPr/>
        </p:nvSpPr>
        <p:spPr>
          <a:xfrm>
            <a:off x="6551640" y="61657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Schwenk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0" name="Picture 26" descr=""/>
          <p:cNvPicPr/>
          <p:nvPr/>
        </p:nvPicPr>
        <p:blipFill>
          <a:blip r:embed="rId1"/>
          <a:stretch/>
        </p:blipFill>
        <p:spPr>
          <a:xfrm>
            <a:off x="6535800" y="1752480"/>
            <a:ext cx="2414520" cy="3729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2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1695600" cy="3429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4"/>
          <p:cNvSpPr/>
          <p:nvPr/>
        </p:nvSpPr>
        <p:spPr>
          <a:xfrm>
            <a:off x="304920" y="57913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ufen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3623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gel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858000" y="5791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ückgetrie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5" name="Picture 23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1703160" cy="2986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4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427120" cy="31147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5"/>
          <p:cNvSpPr/>
          <p:nvPr/>
        </p:nvSpPr>
        <p:spPr>
          <a:xfrm>
            <a:off x="44197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Keil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8" name="Titel 1" descr=""/>
          <p:cNvPicPr/>
          <p:nvPr/>
        </p:nvPicPr>
        <p:blipFill>
          <a:blip r:embed="rId5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39" name="Textfeld 15"/>
          <p:cNvSpPr/>
          <p:nvPr/>
        </p:nvSpPr>
        <p:spPr>
          <a:xfrm>
            <a:off x="2305800" y="11606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Verstell- bzw. Schaltgetrieb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1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42" name="Textfeld 7"/>
          <p:cNvSpPr/>
          <p:nvPr/>
        </p:nvSpPr>
        <p:spPr>
          <a:xfrm>
            <a:off x="2893320" y="1160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3" name="Picture 7" descr=""/>
          <p:cNvPicPr/>
          <p:nvPr/>
        </p:nvPicPr>
        <p:blipFill>
          <a:blip r:embed="rId2"/>
          <a:stretch/>
        </p:blipFill>
        <p:spPr>
          <a:xfrm>
            <a:off x="6408720" y="3824280"/>
            <a:ext cx="1889280" cy="2505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3"/>
          <a:stretch/>
        </p:blipFill>
        <p:spPr>
          <a:xfrm>
            <a:off x="900000" y="3392640"/>
            <a:ext cx="4929480" cy="3124080"/>
          </a:xfrm>
          <a:prstGeom prst="rect">
            <a:avLst/>
          </a:prstGeom>
          <a:ln w="0">
            <a:noFill/>
          </a:ln>
        </p:spPr>
      </p:pic>
      <p:pic>
        <p:nvPicPr>
          <p:cNvPr id="545" name="Rectangle 3" descr=""/>
          <p:cNvPicPr/>
          <p:nvPr/>
        </p:nvPicPr>
        <p:blipFill>
          <a:blip r:embed="rId4"/>
          <a:stretch/>
        </p:blipFill>
        <p:spPr>
          <a:xfrm>
            <a:off x="139680" y="1474920"/>
            <a:ext cx="6364440" cy="75564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-252360" y="1413000"/>
            <a:ext cx="72374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Werkstoff: Gusseisen, Stahlguss oder Stah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Durchmesser: d &lt; 355 m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Lauffläche geschliff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gewölbte Lauffläche sollen Riemen zentrieren und ablaufen verhinder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7" name="Picture 8" descr=""/>
          <p:cNvPicPr/>
          <p:nvPr/>
        </p:nvPicPr>
        <p:blipFill>
          <a:blip r:embed="rId5"/>
          <a:stretch/>
        </p:blipFill>
        <p:spPr>
          <a:xfrm>
            <a:off x="6551640" y="1219320"/>
            <a:ext cx="1601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9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50" name="Textfeld 8"/>
          <p:cNvSpPr/>
          <p:nvPr/>
        </p:nvSpPr>
        <p:spPr>
          <a:xfrm>
            <a:off x="2893320" y="112536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1" name="Picture 11" descr=""/>
          <p:cNvPicPr/>
          <p:nvPr/>
        </p:nvPicPr>
        <p:blipFill>
          <a:blip r:embed="rId2"/>
          <a:stretch/>
        </p:blipFill>
        <p:spPr>
          <a:xfrm>
            <a:off x="5616720" y="3645000"/>
            <a:ext cx="3047760" cy="2601720"/>
          </a:xfrm>
          <a:prstGeom prst="rect">
            <a:avLst/>
          </a:prstGeom>
          <a:ln w="0">
            <a:noFill/>
          </a:ln>
        </p:spPr>
      </p:pic>
      <p:pic>
        <p:nvPicPr>
          <p:cNvPr id="552" name="Rectangle 5" descr=""/>
          <p:cNvPicPr/>
          <p:nvPr/>
        </p:nvPicPr>
        <p:blipFill>
          <a:blip r:embed="rId3"/>
          <a:stretch/>
        </p:blipFill>
        <p:spPr>
          <a:xfrm>
            <a:off x="103320" y="1798560"/>
            <a:ext cx="5224320" cy="755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"/>
          <p:cNvPicPr/>
          <p:nvPr/>
        </p:nvPicPr>
        <p:blipFill>
          <a:blip r:embed="rId4"/>
          <a:stretch/>
        </p:blipFill>
        <p:spPr>
          <a:xfrm>
            <a:off x="216000" y="2924280"/>
            <a:ext cx="4795560" cy="3300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" descr=""/>
          <p:cNvPicPr/>
          <p:nvPr/>
        </p:nvPicPr>
        <p:blipFill>
          <a:blip r:embed="rId5"/>
          <a:stretch/>
        </p:blipFill>
        <p:spPr>
          <a:xfrm>
            <a:off x="6372360" y="1125360"/>
            <a:ext cx="2008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17" name="Textfeld 6"/>
          <p:cNvSpPr/>
          <p:nvPr/>
        </p:nvSpPr>
        <p:spPr>
          <a:xfrm>
            <a:off x="971640" y="2205000"/>
            <a:ext cx="72374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Reib- oder formschlüssige Momentenübertragung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über ein biegeweiches, elastisches Zugmittel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(Riemen), zwischen zwei oder mehreren Wel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neben Lastübertragung werden Flachriemen als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Transportgurt eingesetz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6" name="Picture 8" descr=""/>
          <p:cNvPicPr/>
          <p:nvPr/>
        </p:nvPicPr>
        <p:blipFill>
          <a:blip r:embed="rId1"/>
          <a:stretch/>
        </p:blipFill>
        <p:spPr>
          <a:xfrm>
            <a:off x="861840" y="3224160"/>
            <a:ext cx="3200400" cy="220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76360" y="2205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e3b30"/>
                </a:solidFill>
                <a:latin typeface="Arial"/>
              </a:rPr>
              <a:t>geschweißte Flachriemenscheib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8" name="Picture 10" descr=""/>
          <p:cNvPicPr/>
          <p:nvPr/>
        </p:nvPicPr>
        <p:blipFill>
          <a:blip r:embed="rId2"/>
          <a:stretch/>
        </p:blipFill>
        <p:spPr>
          <a:xfrm>
            <a:off x="4896000" y="238428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1"/>
          <p:cNvSpPr/>
          <p:nvPr/>
        </p:nvSpPr>
        <p:spPr>
          <a:xfrm>
            <a:off x="5219640" y="1736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e3b30"/>
                </a:solidFill>
                <a:latin typeface="Arial"/>
              </a:rPr>
              <a:t>Keil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4859280" y="37530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Voll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4684680" y="5827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gossene Boden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2" name="Text Box 14"/>
          <p:cNvSpPr/>
          <p:nvPr/>
        </p:nvSpPr>
        <p:spPr>
          <a:xfrm>
            <a:off x="6437160" y="58276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löte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7504200" y="5827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schweiß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4" name="Titel 1" descr=""/>
          <p:cNvPicPr/>
          <p:nvPr/>
        </p:nvPicPr>
        <p:blipFill>
          <a:blip r:embed="rId3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65" name="Textfeld 15"/>
          <p:cNvSpPr/>
          <p:nvPr/>
        </p:nvSpPr>
        <p:spPr>
          <a:xfrm>
            <a:off x="3000960" y="1160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Textfeld 5"/>
          <p:cNvSpPr/>
          <p:nvPr/>
        </p:nvSpPr>
        <p:spPr>
          <a:xfrm>
            <a:off x="1871640" y="1557360"/>
            <a:ext cx="6337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lastische Kraft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äuscharmer, stoß- &amp; schwingungsdämpfender Lau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er, preiswerter Aufba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brückung größerer Wellenabstä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Schmier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bzw. geringe Wart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hohe Umfangs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el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472600" cy="130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Textfeld 3"/>
          <p:cNvSpPr/>
          <p:nvPr/>
        </p:nvSpPr>
        <p:spPr>
          <a:xfrm>
            <a:off x="1258920" y="1916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kraftschlüssig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.B.: - 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Keil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Textfeld 4"/>
          <p:cNvSpPr/>
          <p:nvPr/>
        </p:nvSpPr>
        <p:spPr>
          <a:xfrm>
            <a:off x="5076720" y="1916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formschlüssi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.B.: - Synchronriemen (Zahnriemen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2" name="Grafik 5" descr="Flachriemen.jpg"/>
          <p:cNvPicPr/>
          <p:nvPr/>
        </p:nvPicPr>
        <p:blipFill>
          <a:blip r:embed="rId2"/>
          <a:stretch/>
        </p:blipFill>
        <p:spPr>
          <a:xfrm>
            <a:off x="539640" y="3429000"/>
            <a:ext cx="1422360" cy="158436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keilriemen.jpg"/>
          <p:cNvPicPr/>
          <p:nvPr/>
        </p:nvPicPr>
        <p:blipFill>
          <a:blip r:embed="rId3"/>
          <a:stretch/>
        </p:blipFill>
        <p:spPr>
          <a:xfrm>
            <a:off x="2340000" y="3429000"/>
            <a:ext cx="1584360" cy="1589040"/>
          </a:xfrm>
          <a:prstGeom prst="rect">
            <a:avLst/>
          </a:prstGeom>
          <a:ln w="0">
            <a:noFill/>
          </a:ln>
        </p:spPr>
      </p:pic>
      <p:pic>
        <p:nvPicPr>
          <p:cNvPr id="424" name="Grafik 7" descr="zahriemen.jpg"/>
          <p:cNvPicPr/>
          <p:nvPr/>
        </p:nvPicPr>
        <p:blipFill>
          <a:blip r:embed="rId4"/>
          <a:stretch/>
        </p:blipFill>
        <p:spPr>
          <a:xfrm>
            <a:off x="5724360" y="3249720"/>
            <a:ext cx="1994040" cy="1906560"/>
          </a:xfrm>
          <a:prstGeom prst="rect">
            <a:avLst/>
          </a:prstGeom>
          <a:ln w="0">
            <a:noFill/>
          </a:ln>
        </p:spPr>
      </p:pic>
      <p:pic>
        <p:nvPicPr>
          <p:cNvPr id="425" name="Gerade Verbindung mit Pfeil 9" descr=""/>
          <p:cNvPicPr/>
          <p:nvPr/>
        </p:nvPicPr>
        <p:blipFill>
          <a:blip r:embed="rId5"/>
          <a:stretch/>
        </p:blipFill>
        <p:spPr>
          <a:xfrm>
            <a:off x="2548080" y="1133640"/>
            <a:ext cx="1908000" cy="981000"/>
          </a:xfrm>
          <a:prstGeom prst="rect">
            <a:avLst/>
          </a:prstGeom>
          <a:ln w="0">
            <a:noFill/>
          </a:ln>
        </p:spPr>
      </p:pic>
      <p:pic>
        <p:nvPicPr>
          <p:cNvPr id="426" name="Gerade Verbindung mit Pfeil 10" descr=""/>
          <p:cNvPicPr/>
          <p:nvPr/>
        </p:nvPicPr>
        <p:blipFill>
          <a:blip r:embed="rId6"/>
          <a:stretch/>
        </p:blipFill>
        <p:spPr>
          <a:xfrm>
            <a:off x="4286160" y="1133640"/>
            <a:ext cx="14083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feld 5"/>
          <p:cNvSpPr/>
          <p:nvPr/>
        </p:nvSpPr>
        <p:spPr>
          <a:xfrm>
            <a:off x="1871640" y="1557360"/>
            <a:ext cx="6337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lastische Kraft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äuscharmer, stoß- &amp; schwingungsdämpfender Lau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er, preiswerter Aufba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brückung größerer Wellenabstä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Schmier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bzw. geringe Wart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hohe Umfangs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32" name="Textfeld 6"/>
          <p:cNvSpPr/>
          <p:nvPr/>
        </p:nvSpPr>
        <p:spPr>
          <a:xfrm>
            <a:off x="1907640" y="1557360"/>
            <a:ext cx="625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Schlupf bei 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konst. Übersetzung bei Keil- &amp; Keilrippen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ößere Wellenabstand &amp; Platzbedar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begrenzter Temperaturberei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Umwelteinflüsse haben Einfluss auf Reibungsverhalt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6" descr="Flachriemenaufbau.jpg"/>
          <p:cNvPicPr/>
          <p:nvPr/>
        </p:nvPicPr>
        <p:blipFill>
          <a:blip r:embed="rId2"/>
          <a:stretch/>
        </p:blipFill>
        <p:spPr>
          <a:xfrm>
            <a:off x="1295280" y="2852640"/>
            <a:ext cx="6732720" cy="3627360"/>
          </a:xfrm>
          <a:prstGeom prst="rect">
            <a:avLst/>
          </a:prstGeom>
          <a:ln w="0">
            <a:noFill/>
          </a:ln>
        </p:spPr>
      </p:pic>
      <p:sp>
        <p:nvSpPr>
          <p:cNvPr id="436" name="Textfeld 8"/>
          <p:cNvSpPr/>
          <p:nvPr/>
        </p:nvSpPr>
        <p:spPr>
          <a:xfrm>
            <a:off x="216000" y="1881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Textilriemen (nicht in der Antriebstechnik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Textfeld 9"/>
          <p:cNvSpPr/>
          <p:nvPr/>
        </p:nvSpPr>
        <p:spPr>
          <a:xfrm>
            <a:off x="5003640" y="1160640"/>
            <a:ext cx="259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unststoff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Textfeld 11"/>
          <p:cNvSpPr/>
          <p:nvPr/>
        </p:nvSpPr>
        <p:spPr>
          <a:xfrm>
            <a:off x="5040360" y="18082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Mehrschicht- oder Verbund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Textfeld 14"/>
          <p:cNvSpPr/>
          <p:nvPr/>
        </p:nvSpPr>
        <p:spPr>
          <a:xfrm>
            <a:off x="216000" y="1160640"/>
            <a:ext cx="23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eder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1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42" name="Grafik 8" descr="Keilriemenarten.jpg"/>
          <p:cNvPicPr/>
          <p:nvPr/>
        </p:nvPicPr>
        <p:blipFill>
          <a:blip r:embed="rId2"/>
          <a:stretch/>
        </p:blipFill>
        <p:spPr>
          <a:xfrm>
            <a:off x="863640" y="1773360"/>
            <a:ext cx="7488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924360" cy="351648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7"/>
          <p:cNvSpPr/>
          <p:nvPr/>
        </p:nvSpPr>
        <p:spPr>
          <a:xfrm>
            <a:off x="1144800" y="501336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Nebenaggregateantrie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7" name="Picture 4" descr="http://i.auto-bild.de/ir_img/58054550_9d3e4aa27a.jpg"/>
          <p:cNvPicPr/>
          <p:nvPr/>
        </p:nvPicPr>
        <p:blipFill>
          <a:blip r:embed="rId3"/>
          <a:stretch/>
        </p:blipFill>
        <p:spPr>
          <a:xfrm>
            <a:off x="4535640" y="1700280"/>
            <a:ext cx="4414680" cy="2941560"/>
          </a:xfrm>
          <a:prstGeom prst="rect">
            <a:avLst/>
          </a:prstGeom>
          <a:ln w="0">
            <a:noFill/>
          </a:ln>
        </p:spPr>
      </p:pic>
      <p:sp>
        <p:nvSpPr>
          <p:cNvPr id="448" name="Textfeld 8"/>
          <p:cNvSpPr/>
          <p:nvPr/>
        </p:nvSpPr>
        <p:spPr>
          <a:xfrm>
            <a:off x="5463720" y="479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lrippenantrieb im Au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tedata.com/uploads/pics/3k_10t_1_3_i04.gif"/>
          <p:cNvPicPr/>
          <p:nvPr/>
        </p:nvPicPr>
        <p:blipFill>
          <a:blip r:embed="rId2"/>
          <a:stretch/>
        </p:blipFill>
        <p:spPr>
          <a:xfrm>
            <a:off x="1655640" y="1233360"/>
            <a:ext cx="6220080" cy="3959280"/>
          </a:xfrm>
          <a:prstGeom prst="rect">
            <a:avLst/>
          </a:prstGeom>
          <a:ln w="0">
            <a:noFill/>
          </a:ln>
        </p:spPr>
      </p:pic>
      <p:sp>
        <p:nvSpPr>
          <p:cNvPr id="452" name="Textfeld 6"/>
          <p:cNvSpPr/>
          <p:nvPr/>
        </p:nvSpPr>
        <p:spPr>
          <a:xfrm>
            <a:off x="3959280" y="3789360"/>
            <a:ext cx="433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Franklin Gothic Book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Textfeld 7"/>
          <p:cNvSpPr/>
          <p:nvPr/>
        </p:nvSpPr>
        <p:spPr>
          <a:xfrm>
            <a:off x="6156360" y="2492280"/>
            <a:ext cx="53964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F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Franklin Gothic Boo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Textfeld 8"/>
          <p:cNvSpPr/>
          <p:nvPr/>
        </p:nvSpPr>
        <p:spPr>
          <a:xfrm>
            <a:off x="1979640" y="2600280"/>
            <a:ext cx="53964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F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Franklin Gothic Boo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Textfeld 9"/>
          <p:cNvSpPr/>
          <p:nvPr/>
        </p:nvSpPr>
        <p:spPr>
          <a:xfrm>
            <a:off x="3537720" y="5445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räfte am Keil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3:57:17Z</dcterms:created>
  <dc:creator>Daniel</dc:creator>
  <dc:description/>
  <dc:language>en-US</dc:language>
  <cp:lastModifiedBy>Daniel</cp:lastModifiedBy>
  <dcterms:modified xsi:type="dcterms:W3CDTF">2010-11-11T16:59:38Z</dcterms:modified>
  <cp:revision>88</cp:revision>
  <dc:subject/>
  <dc:title>Folie 1</dc:title>
</cp:coreProperties>
</file>